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602-B6CB-4A59-AEF2-3450D500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8F5-54BA-4077-8F64-C532323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221-F86F-45AE-B9BD-A4EC2460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B6D-6157-4278-AFC9-9C4F6AA6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5C21-F545-4345-88A0-1C2625B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68C-B6D0-4C58-B129-15A777E4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8C4-1CD0-4CC8-8307-A4E92737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751-C7FD-4092-9F0E-798DED0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00A7-F1F3-471D-8938-D14CFA58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0711-C8BE-4B89-8D67-C2444C6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B23-F5AC-44F8-818A-DBE85C7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6B7-59A2-49A0-A234-20C46E7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89D5-E042-4793-BCC5-F253FF5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57D5-ED8F-4677-A1E5-02201BA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90B7-A4B6-48A7-8CD2-2B1ED82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1637-4AB2-40DD-A906-BEBB50FD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D9DB-1600-46A7-B603-6B7B1D9A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FC4-780F-49A0-8BE4-14812BC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550-A617-4E7A-A8CB-9B4ECB4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E3C-6C87-458E-A07E-B195E19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07C-0B27-43D8-AEA6-805980F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645-6EA3-43A2-AF3E-15CD1E9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DF2-A8C0-4F29-87A5-86EED63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380-DBE7-4CB4-BFBB-96485F6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830-C80B-4F36-800E-85AE604652E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EBAF-9F8D-4E78-8A13-AD8FEE7FB02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886520" cy="571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4" descr="23.jpg"/>
          <p:cNvPicPr/>
          <p:nvPr/>
        </p:nvPicPr>
        <p:blipFill>
          <a:blip r:embed="rId2"/>
          <a:stretch/>
        </p:blipFill>
        <p:spPr>
          <a:xfrm>
            <a:off x="214200" y="357120"/>
            <a:ext cx="264348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195120"/>
            <a:ext cx="5443560" cy="135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Program Files\Microsoft Office 2003\MEDIA\CAGCAT10\j0301252.wmf"/>
          <p:cNvPicPr/>
          <p:nvPr/>
        </p:nvPicPr>
        <p:blipFill>
          <a:blip r:embed="rId2"/>
          <a:stretch/>
        </p:blipFill>
        <p:spPr>
          <a:xfrm>
            <a:off x="4714920" y="1857240"/>
            <a:ext cx="39733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33440" y="201600"/>
            <a:ext cx="8350200" cy="127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Рисунок 3" descr="13.jpg"/>
          <p:cNvPicPr/>
          <p:nvPr/>
        </p:nvPicPr>
        <p:blipFill>
          <a:blip r:embed="rId2"/>
          <a:stretch/>
        </p:blipFill>
        <p:spPr>
          <a:xfrm>
            <a:off x="1285920" y="4000680"/>
            <a:ext cx="6572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-23760" y="-66600"/>
            <a:ext cx="8356680" cy="18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и когда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C:\Program Files\Microsoft Office 2003\MEDIA\CAGCAT10\j0299125.wmf"/>
          <p:cNvPicPr/>
          <p:nvPr/>
        </p:nvPicPr>
        <p:blipFill>
          <a:blip r:embed="rId2"/>
          <a:stretch/>
        </p:blipFill>
        <p:spPr>
          <a:xfrm>
            <a:off x="6786720" y="2928960"/>
            <a:ext cx="2143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Book Antiqua"/>
              </a:rPr>
              <a:t>Исследоват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C:\Program Files\Microsoft Office 2003\MEDIA\CAGCAT10\j0217698.wmf"/>
          <p:cNvPicPr/>
          <p:nvPr/>
        </p:nvPicPr>
        <p:blipFill>
          <a:blip r:embed="rId2"/>
          <a:stretch/>
        </p:blipFill>
        <p:spPr>
          <a:xfrm>
            <a:off x="5000760" y="2643120"/>
            <a:ext cx="3857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1599840"/>
            <a:ext cx="7472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В каких древних источниках впервые упоминается о дробя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использовали в Древнем Вавилон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ово отношение к дробям в древних цивилизация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огда и где впервые стали записывать дроби с помощью числителя и знаменател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раз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6518</cp:lastModifiedBy>
  <dcterms:modified xsi:type="dcterms:W3CDTF">2010-05-21T04:37:20Z</dcterms:modified>
  <cp:revision>26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